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2883-5E1E-409D-98CB-D0080D3F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D59-9996-4EE6-B4C3-FD9D50C7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FA2-9DD1-42B5-B391-B1A0EA66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B66-ED01-4416-B118-0D462DAF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3C29-6AC0-48C3-A753-778CE7BC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12B9-02B7-4122-9CA0-EB07A66C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2DCF-14F5-4F18-AA68-949C0E98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239C-1E1B-4AF0-AC67-ED01A7ED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C370-1F8D-44CC-8EB1-0563A5D5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D411-1FA5-4C4B-BBB0-9B7E9AC6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32E1-A20B-4DA5-88C5-BC7654AA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BD76-C2D3-4969-B813-0189414E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2988-1DB9-4855-B24E-67124C64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02C2-694C-4B60-9884-B43B1E5E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5A20-9239-4FF5-8768-D79BD332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4B9C-0E39-4AFF-A548-3366BC49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E014-EED5-4887-85C8-1C87B3BC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B9E9-AD85-4AF7-96AD-328D393D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862-492E-4767-AB50-6C881206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025-B7D2-4DB6-8E1A-4C05E183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15C-1B55-4AAE-BC60-4EDBC96A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4439-C59C-438D-9CE8-67ADBCFD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F55-F8CC-47AA-A860-A1330B89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2208-F19C-4244-9482-E4FC4540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C769-F58D-41AA-A28D-221CF9CDF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3233-F800-4768-8A06-27FB23209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826920" y="189000"/>
            <a:ext cx="806616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RROTOA,ODOLA ET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LKOAK.HERIOTZATI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HES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79280" y="404640"/>
            <a:ext cx="8964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azarpen eta halakoen ondorioz nora ihes egin zuten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42920" y="1268280"/>
            <a:ext cx="720108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skerrik asko entzuteagati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2 TALDEA:Maider Biguri, Ander Febrer, Alex de la fuente,Laura Martinez, Mikel Cardenas eta Julen Winterbot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258920" y="549360"/>
            <a:ext cx="705636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EIN IZAN ZEN GERRARE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RAZOIA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268360" y="549360"/>
            <a:ext cx="47246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ork irabazi zuen gerrak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627280" y="549360"/>
            <a:ext cx="36766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rraren ondorioa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268360" y="549360"/>
            <a:ext cx="4686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ortzuk borrokatu zuten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700360" y="620640"/>
            <a:ext cx="4000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er da gerra zibil bat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24000" y="549360"/>
            <a:ext cx="484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enbat iraun zuen gerrak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4360" y="476280"/>
            <a:ext cx="7734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ein izan zen emakumeen papera gerran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55640" y="476280"/>
            <a:ext cx="79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alde bakoitzean zer alde politiko zeuden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2:58:41Z</dcterms:created>
  <dc:creator>ik015111zz</dc:creator>
  <dc:description/>
  <dc:language>en-US</dc:language>
  <cp:lastModifiedBy>luis trabajo de informatica</cp:lastModifiedBy>
  <dcterms:modified xsi:type="dcterms:W3CDTF">2012-05-17T12:40:03Z</dcterms:modified>
  <cp:revision>3</cp:revision>
  <dc:subject/>
  <dc:title>Diapositiva 1</dc:title>
</cp:coreProperties>
</file>